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F65-D2CB-450B-844B-909B75DC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17B-BD48-48D3-A25D-B3DD23BC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F6F-E158-458D-8D7D-D4270A3D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840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880" y="13712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192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840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880" y="3878640"/>
            <a:ext cx="26629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D9F3-CDFF-4FF6-B520-84B4DBDA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109-8049-4173-9935-367534D5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9AE-097B-4E9A-A4D5-0D9C8E6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57A5-BB6E-48A6-89E9-45DBBEAB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DF6B-946E-4C29-96FA-D5AC7E8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D35-CA55-43A8-A6DC-8E166E41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937-80F7-491E-9BBD-DEDE859B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200" y="38786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862-7592-4BEF-AF48-711EA31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192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200" y="1371240"/>
            <a:ext cx="4035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1920" y="3878640"/>
            <a:ext cx="8271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70D-7F68-46E0-9ABC-48B89B2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055520" y="6400440"/>
            <a:ext cx="1546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673000" y="6400440"/>
            <a:ext cx="42195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33680" y="6400440"/>
            <a:ext cx="17766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7575-8C73-4FA2-90A9-5C3033755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8026560" cy="0"/>
          </a:xfrm>
          <a:prstGeom prst="line">
            <a:avLst/>
          </a:prstGeom>
          <a:ln w="507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21920" y="1371240"/>
            <a:ext cx="827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Sensitivity of CNGS*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J.E Campag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from P. Miggliozi at NuFact ‘0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491040" y="5791320"/>
            <a:ext cx="42919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*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  <a:ea typeface="ＭＳ Ｐゴシック"/>
              </a:rPr>
              <a:t>OPERA Electron identification and energy measurement</a:t>
            </a:r>
            <a:endParaRPr b="0" lang="en-US" sz="32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295280"/>
            <a:ext cx="883908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thod based on shower identification and on MCS of the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e/</a:t>
            </a: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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 ratio is measured with Cerenkov and ECC (test be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1.42±0.17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1.46±0.11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2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8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ECC   0.41±0.05  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Cerenkov 0.32±0.03 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8000"/>
                </a:solidFill>
                <a:latin typeface="Comic Sans MS"/>
              </a:rPr>
              <a:t>at 4G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eaec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Symbol"/>
                <a:ea typeface="Symbol"/>
              </a:rPr>
              <a:t></a:t>
            </a:r>
            <a:r>
              <a:rPr b="0" lang="it-IT" sz="1800" spc="-1" strike="noStrike" baseline="-25000">
                <a:solidFill>
                  <a:srgbClr val="063de8"/>
                </a:solidFill>
                <a:latin typeface="Comic Sans MS"/>
              </a:rPr>
              <a:t>e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= 88 (91) % at 2 (4) GeV (in agreement with M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267080"/>
            <a:ext cx="53341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easured by counting the number of track segments into a cone along the electron tr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Multiple Coulomb Scattering before show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63d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63de8"/>
                </a:solidFill>
                <a:latin typeface="Comic Sans MS"/>
              </a:rPr>
              <a:t>Resolution </a:t>
            </a:r>
            <a:r>
              <a:rPr b="0" lang="it-IT" sz="1800" spc="-1" strike="noStrike">
                <a:solidFill>
                  <a:srgbClr val="063de8"/>
                </a:solidFill>
                <a:latin typeface="Comic Sans MS"/>
                <a:ea typeface="Times New Roman"/>
              </a:rPr>
              <a:t>~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59280" y="3738600"/>
            <a:ext cx="3423600" cy="3121920"/>
            <a:chOff x="5759280" y="3738600"/>
            <a:chExt cx="3423600" cy="3121920"/>
          </a:xfrm>
        </p:grpSpPr>
        <p:pic>
          <p:nvPicPr>
            <p:cNvPr id="49" name="e-shower" descr=""/>
            <p:cNvPicPr/>
            <p:nvPr/>
          </p:nvPicPr>
          <p:blipFill>
            <a:blip r:embed="rId1"/>
            <a:srcRect l="4459" t="0" r="42683" b="2469"/>
            <a:stretch/>
          </p:blipFill>
          <p:spPr>
            <a:xfrm>
              <a:off x="6090480" y="3738600"/>
              <a:ext cx="2727360" cy="265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8777160" y="3880080"/>
              <a:ext cx="405720" cy="2483640"/>
              <a:chOff x="8777160" y="3880080"/>
              <a:chExt cx="405720" cy="2483640"/>
            </a:xfrm>
          </p:grpSpPr>
          <p:sp>
            <p:nvSpPr>
              <p:cNvPr id="51" name=""/>
              <p:cNvSpPr/>
              <p:nvPr/>
            </p:nvSpPr>
            <p:spPr>
              <a:xfrm>
                <a:off x="893664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141400" y="4794840"/>
                <a:ext cx="1677240" cy="40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X</a:t>
                </a:r>
                <a:r>
                  <a:rPr b="0" lang="en-US" sz="1800" spc="-1" strike="noStrike" baseline="-25000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0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 ( </a:t>
                </a: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Times New Roman"/>
                  </a:rPr>
                  <a:t>~ ½ brick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7153560" y="6553440"/>
              <a:ext cx="822600" cy="307080"/>
              <a:chOff x="7153560" y="6553440"/>
              <a:chExt cx="822600" cy="307080"/>
            </a:xfrm>
          </p:grpSpPr>
          <p:sp>
            <p:nvSpPr>
              <p:cNvPr id="54" name=""/>
              <p:cNvSpPr/>
              <p:nvPr/>
            </p:nvSpPr>
            <p:spPr>
              <a:xfrm>
                <a:off x="7281000" y="6576840"/>
                <a:ext cx="509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3560" y="6553440"/>
                <a:ext cx="822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33"/>
                    </a:solidFill>
                    <a:latin typeface="Times New Roman"/>
                  </a:rPr>
                  <a:t>1 m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5759280" y="3880080"/>
              <a:ext cx="368280" cy="2483640"/>
              <a:chOff x="5759280" y="3880080"/>
              <a:chExt cx="368280" cy="2483640"/>
            </a:xfrm>
          </p:grpSpPr>
          <p:sp>
            <p:nvSpPr>
              <p:cNvPr id="57" name=""/>
              <p:cNvSpPr/>
              <p:nvPr/>
            </p:nvSpPr>
            <p:spPr>
              <a:xfrm>
                <a:off x="5932800" y="3880080"/>
                <a:ext cx="0" cy="248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stealth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5626800" y="4836600"/>
                <a:ext cx="6332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  <a:ea typeface="ＭＳ Ｐゴシック"/>
                  </a:rPr>
                  <a:t>5 c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OPERA sensitivity to </a:t>
            </a:r>
            <a:r>
              <a:rPr b="0" lang="en-US" sz="36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13 </a:t>
            </a:r>
            <a:br>
              <a:rPr sz="3600"/>
            </a:br>
            <a:r>
              <a:rPr b="0" lang="en-US" sz="3600" spc="-1" strike="noStrike" baseline="-25000">
                <a:solidFill>
                  <a:srgbClr val="0033cc"/>
                </a:solidFill>
                <a:latin typeface="Comic Sans MS"/>
              </a:rPr>
              <a:t>CNGS nominal 5ans 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319320" y="1447920"/>
            <a:ext cx="42606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By fitting simultaneously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, missing p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and 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vis</a:t>
            </a: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omic Sans MS"/>
              </a:rPr>
              <a:t>we got the sensitivity at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266000" y="2666880"/>
            <a:ext cx="4603320" cy="3581640"/>
            <a:chOff x="4266000" y="2666880"/>
            <a:chExt cx="4603320" cy="3581640"/>
          </a:xfrm>
        </p:grpSpPr>
        <p:grpSp>
          <p:nvGrpSpPr>
            <p:cNvPr id="62" name=""/>
            <p:cNvGrpSpPr/>
            <p:nvPr/>
          </p:nvGrpSpPr>
          <p:grpSpPr>
            <a:xfrm>
              <a:off x="4726080" y="2666880"/>
              <a:ext cx="4143240" cy="3581640"/>
              <a:chOff x="4726080" y="2666880"/>
              <a:chExt cx="4143240" cy="3581640"/>
            </a:xfrm>
          </p:grpSpPr>
          <p:pic>
            <p:nvPicPr>
              <p:cNvPr id="63" name="fullopera_paper" descr=""/>
              <p:cNvPicPr/>
              <p:nvPr/>
            </p:nvPicPr>
            <p:blipFill>
              <a:blip r:embed="rId1"/>
              <a:srcRect l="0" t="8780" r="7614" b="3763"/>
              <a:stretch/>
            </p:blipFill>
            <p:spPr>
              <a:xfrm>
                <a:off x="4726080" y="2666880"/>
                <a:ext cx="4143240" cy="358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280280" y="3224880"/>
                <a:ext cx="155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c0128"/>
                    </a:solidFill>
                    <a:latin typeface="Comic Sans MS"/>
                  </a:rPr>
                  <a:t>Prelimina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7391520" y="4399560"/>
              <a:ext cx="0" cy="138024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387760" y="4399560"/>
              <a:ext cx="2003400" cy="0"/>
            </a:xfrm>
            <a:prstGeom prst="line">
              <a:avLst/>
            </a:prstGeom>
            <a:ln w="12600">
              <a:solidFill>
                <a:srgbClr val="d6009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6000" y="4263480"/>
              <a:ext cx="129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2.5x10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-3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eV</a:t>
              </a:r>
              <a:r>
                <a:rPr b="1" lang="en-US" sz="1600" spc="-1" strike="noStrike" baseline="30000">
                  <a:solidFill>
                    <a:srgbClr val="fc0128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6880" y="576216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0.06 </a:t>
              </a:r>
              <a:r>
                <a:rPr b="1" lang="en-US" sz="1600" spc="-1" strike="noStrike">
                  <a:solidFill>
                    <a:srgbClr val="fc0128"/>
                  </a:solidFill>
                  <a:latin typeface="Symbol"/>
                  <a:ea typeface="Symbol"/>
                </a:rPr>
                <a:t></a:t>
              </a:r>
              <a:r>
                <a:rPr b="1" lang="en-US" sz="1600" spc="-1" strike="noStrike">
                  <a:solidFill>
                    <a:srgbClr val="fc0128"/>
                  </a:solidFill>
                  <a:latin typeface="Tahoma"/>
                </a:rPr>
                <a:t> 7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" name="numunueOpera" descr=""/>
          <p:cNvPicPr/>
          <p:nvPr/>
        </p:nvPicPr>
        <p:blipFill>
          <a:blip r:embed="rId2"/>
          <a:stretch/>
        </p:blipFill>
        <p:spPr>
          <a:xfrm>
            <a:off x="0" y="2590920"/>
            <a:ext cx="4267080" cy="3711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295280" y="3429000"/>
            <a:ext cx="990720" cy="0"/>
          </a:xfrm>
          <a:prstGeom prst="line">
            <a:avLst/>
          </a:prstGeom>
          <a:ln w="12600">
            <a:solidFill>
              <a:srgbClr val="063de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47920" y="3352680"/>
            <a:ext cx="914400" cy="160020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3120" y="1295280"/>
            <a:ext cx="35179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Only 15% increase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because the event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is already performed for </a:t>
            </a:r>
            <a:r>
              <a:rPr b="0" lang="fr-FR" sz="2000" spc="-1" strike="noStrike">
                <a:solidFill>
                  <a:srgbClr val="0033cc"/>
                </a:solidFill>
                <a:latin typeface="Symbol"/>
                <a:ea typeface="Symbol"/>
              </a:rPr>
              <a:t>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cc"/>
                </a:solidFill>
                <a:latin typeface="Comic Sans MS"/>
              </a:rPr>
              <a:t>search</a:t>
            </a:r>
            <a:r>
              <a:rPr b="0" lang="fr-FR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35960" y="6218280"/>
            <a:ext cx="71820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x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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=7°, Signal/Bkg OPERA 6/29, ICARUS 16/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hi2comb_paper" descr=""/>
          <p:cNvPicPr/>
          <p:nvPr/>
        </p:nvPicPr>
        <p:blipFill>
          <a:blip r:embed="rId1"/>
          <a:srcRect l="0" t="3763" r="7614" b="3763"/>
          <a:stretch/>
        </p:blipFill>
        <p:spPr>
          <a:xfrm>
            <a:off x="4267080" y="1371600"/>
            <a:ext cx="4492800" cy="518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406840" y="3048120"/>
            <a:ext cx="130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2.5x10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-3</a:t>
            </a: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 eV</a:t>
            </a:r>
            <a:r>
              <a:rPr b="1" lang="en-US" sz="1600" spc="-1" strike="noStrike" baseline="30000">
                <a:solidFill>
                  <a:srgbClr val="fc012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OPERA &amp; ICARUS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791400" y="3544560"/>
            <a:ext cx="0" cy="242892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76640" y="3560760"/>
            <a:ext cx="1820880" cy="0"/>
          </a:xfrm>
          <a:prstGeom prst="line">
            <a:avLst/>
          </a:prstGeom>
          <a:ln w="12600">
            <a:solidFill>
              <a:srgbClr val="d6009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53560" y="6013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Tahoma"/>
              </a:rPr>
              <a:t>0.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286000"/>
            <a:ext cx="37335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From the ICARUS proposal, we evaluated the CNGS sensitivity to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by combining both experiments through a global </a:t>
            </a:r>
            <a:r>
              <a:rPr b="0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33cc"/>
                </a:solidFill>
                <a:latin typeface="Comic Sans MS"/>
              </a:rPr>
              <a:t> define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ICARUS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Comic Sans MS"/>
              </a:rPr>
              <a:t>O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Le temps sur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sin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fr-FR" sz="3600" spc="-1" strike="noStrike">
                <a:solidFill>
                  <a:srgbClr val="0033cc"/>
                </a:solidFill>
                <a:latin typeface="Comic Sans MS"/>
              </a:rPr>
              <a:t> …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1523880"/>
          <a:ext cx="8055000" cy="3117960"/>
        </p:xfrm>
        <a:graphic>
          <a:graphicData uri="http://schemas.openxmlformats.org/drawingml/2006/table">
            <a:tbl>
              <a:tblPr/>
              <a:tblGrid>
                <a:gridCol w="1892520"/>
                <a:gridCol w="955440"/>
                <a:gridCol w="1043280"/>
                <a:gridCol w="1096920"/>
                <a:gridCol w="1066680"/>
                <a:gridCol w="1000080"/>
                <a:gridCol w="1000080"/>
              </a:tblGrid>
              <a:tr h="36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c0128"/>
                          </a:solidFill>
                          <a:latin typeface="Comic Sans MS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HOO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11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MINOS + Nu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6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 CNG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7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OPERA + IC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CNGS x 1.5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5.2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Low energy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4.8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J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&lt;0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63de8"/>
                          </a:solidFill>
                          <a:latin typeface="Comic Sans MS"/>
                        </a:rPr>
                        <a:t>3.3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343800" y="5715000"/>
            <a:ext cx="4371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dfc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Designed for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21376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0720" y="4724280"/>
            <a:ext cx="454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0128"/>
                </a:solidFill>
                <a:latin typeface="Comic Sans MS"/>
              </a:rPr>
              <a:t>OPERA + ICARUS 5ans &amp; CNGS*1.5 : 4.5°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HF 5ans                                          : 2.5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Conclusion</a:t>
            </a:r>
            <a:endParaRPr b="0" lang="en-US" sz="36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77320" cy="47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63de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OPERA has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parable to the one of the other LBL experi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5-0.0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sensitivity to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combining ICARUS and OPERA 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-221400">
              <a:spcBef>
                <a:spcPts val="601"/>
              </a:spcBef>
              <a:buClr>
                <a:srgbClr val="00dfca"/>
              </a:buClr>
              <a:buFont typeface="Comic Sans MS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sin</a:t>
            </a:r>
            <a:r>
              <a:rPr b="0" lang="en-US" sz="2400" spc="-1" strike="noStrike" baseline="30000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Comic Sans MS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 &lt; 0.0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f the CNGS starts in 2006, by the time JHF will provide the first results (2009) the combined sensitivity of ICARUS and OPERA at 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2.5x10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eV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, sin</a:t>
            </a:r>
            <a:r>
              <a:rPr b="0" lang="en-U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cc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ill be a factor 4-5 better than the CHOOZ li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If we are lucky (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 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just below the CHOOZ limit) the CNGS could provide the first measurement of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c0128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c0128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1:57:29Z</dcterms:created>
  <dc:creator>campagne</dc:creator>
  <dc:description/>
  <dc:language>en-US</dc:language>
  <cp:lastModifiedBy>campagne</cp:lastModifiedBy>
  <dcterms:modified xsi:type="dcterms:W3CDTF">2002-09-16T10:30:58Z</dcterms:modified>
  <cp:revision>12</cp:revision>
  <dc:subject/>
  <dc:title>OPERA sensitivity to q13</dc:title>
</cp:coreProperties>
</file>